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9A6-DDCD-4591-8C47-030F8551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937-67BE-4521-8FEE-33D99D19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890-1318-4765-ABE8-AD737494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1FD-6AAF-4CD8-95E5-D7D1594E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25F-AD41-4C4C-99FE-17282DF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70A-679A-4CC0-B1E2-6AFACF4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0B8-A661-41ED-9DA2-B9AF6F6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9C9-25EB-4C0A-86EB-39740E1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685-5B36-401D-AD9E-127EBCE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0E2-7962-41FE-830E-68F34FC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01B-8775-45A2-91BE-478A2AB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597-2EF3-4FD3-B93A-F7B0CB4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031-D2A7-4599-8E00-4386B7DEC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Classes &amp;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ch better way to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 min( T a, 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 = min(a,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7760" y="1905120"/>
            <a:ext cx="5627160" cy="825480"/>
            <a:chOff x="3047760" y="1905120"/>
            <a:chExt cx="5627160" cy="825480"/>
          </a:xfrm>
        </p:grpSpPr>
        <p:sp>
          <p:nvSpPr>
            <p:cNvPr id="63" name=""/>
            <p:cNvSpPr/>
            <p:nvPr/>
          </p:nvSpPr>
          <p:spPr>
            <a:xfrm>
              <a:off x="3661560" y="1905120"/>
              <a:ext cx="5013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” stands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yp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that is replac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n be anything valid identifi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47760" y="2133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62320" y="2286000"/>
            <a:ext cx="5210640" cy="1511280"/>
            <a:chOff x="2362320" y="2286000"/>
            <a:chExt cx="5210640" cy="1511280"/>
          </a:xfrm>
        </p:grpSpPr>
        <p:sp>
          <p:nvSpPr>
            <p:cNvPr id="66" name=""/>
            <p:cNvSpPr/>
            <p:nvPr/>
          </p:nvSpPr>
          <p:spPr>
            <a:xfrm>
              <a:off x="3663000" y="2971800"/>
              <a:ext cx="39099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ass” is not the right word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ould be more like “typ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2362320" y="2286000"/>
              <a:ext cx="1295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437920" y="4038480"/>
            <a:ext cx="5711400" cy="1676520"/>
            <a:chOff x="2437920" y="4038480"/>
            <a:chExt cx="5711400" cy="1676520"/>
          </a:xfrm>
        </p:grpSpPr>
        <p:sp>
          <p:nvSpPr>
            <p:cNvPr id="69" name=""/>
            <p:cNvSpPr/>
            <p:nvPr/>
          </p:nvSpPr>
          <p:spPr>
            <a:xfrm>
              <a:off x="3664800" y="4038480"/>
              <a:ext cx="448452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knows which vers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the function to compile bas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the parameter typ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37920" y="472428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mpla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, int siz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Safe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afeArray() : m_size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SetValue(int index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dex &gt;= m_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array[index] =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s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_array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bRet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afeArray&lt;int, 10&gt; myIntArr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tValue = myIntArray.SetValue(10, 4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afeArray&lt;float, 100&gt; myFloatArr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tValue = myFloatArray.SetValue(54, 43.4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you a lot of time and effor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reus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ype-safe – the compiler can validate parameters are not type-mis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ifficult to read code or debug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saw last class, often you don’t want users to create instances of your bas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? Because your base class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hould only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chil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olution: make base class constru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ents who derive their own classes from your base class to implement certain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Base class CThread that creates and runs a thread for you. User simply derives their own class, and implements the Run() fun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implement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rtual Run() function in the base clas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overridden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you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ser to implement the Run() function no matter what! The usage of your base class is now even clear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how do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function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implemen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re virtual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irtual void Foo()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containing a pure virtual function is called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stract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it cannot be instantiated! It is purely an interfac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ctu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rtThrea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all pure virtu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u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must be implemented in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int Run()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MySillyThread : public C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mplement parent's pure virtu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int Ru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Hello! This is my silly thread!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doesn't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Thread thread;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works fi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ySillyThread silly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llyThread.StartTh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SDN: Templates are mech-anisms for generating functions and classes based on type parameters (templates are sometimes called “parameterized type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, class, &lt;,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Templa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in( int a, in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l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 min( long a, long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ch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min( char a, char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in for flo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min( float a, float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a &lt; b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07:59Z</dcterms:modified>
  <cp:revision>51</cp:revision>
  <dc:subject/>
  <dc:title>C/C++ Tutorial</dc:title>
</cp:coreProperties>
</file>